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2108160" y="744120"/>
            <a:ext cx="257832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51280" y="943452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1127C2-5C00-4271-82A1-A0B354EAB9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1280" y="943452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3897BB-2054-4D67-99C9-F90076CB35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51280" y="943452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83EAC-ED2C-4D06-B1CF-A777351A5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08160" y="744480"/>
            <a:ext cx="257832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개체 1"/>
          <p:cNvGraphicFramePr/>
          <p:nvPr/>
        </p:nvGraphicFramePr>
        <p:xfrm>
          <a:off x="2933640" y="0"/>
          <a:ext cx="3924360" cy="26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" name="개체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3640" y="0"/>
                    <a:ext cx="392436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" name="개체 2"/>
          <p:cNvGraphicFramePr/>
          <p:nvPr/>
        </p:nvGraphicFramePr>
        <p:xfrm>
          <a:off x="4464000" y="6364440"/>
          <a:ext cx="2389320" cy="354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" name="개체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4000" y="6364440"/>
                    <a:ext cx="23893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Line 5"/>
          <p:cNvSpPr/>
          <p:nvPr/>
        </p:nvSpPr>
        <p:spPr>
          <a:xfrm flipH="1">
            <a:off x="761760" y="1816200"/>
            <a:ext cx="556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Line 6"/>
          <p:cNvSpPr/>
          <p:nvPr/>
        </p:nvSpPr>
        <p:spPr>
          <a:xfrm>
            <a:off x="1022400" y="1352520"/>
            <a:ext cx="0" cy="705816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2" name="Line 7"/>
          <p:cNvSpPr/>
          <p:nvPr/>
        </p:nvSpPr>
        <p:spPr>
          <a:xfrm flipH="1">
            <a:off x="528480" y="1981080"/>
            <a:ext cx="5562720" cy="0"/>
          </a:xfrm>
          <a:prstGeom prst="line">
            <a:avLst/>
          </a:prstGeom>
          <a:ln w="57240">
            <a:solidFill>
              <a:srgbClr val="ada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3" name="Line 8"/>
          <p:cNvSpPr/>
          <p:nvPr/>
        </p:nvSpPr>
        <p:spPr>
          <a:xfrm>
            <a:off x="1174680" y="1127160"/>
            <a:ext cx="0" cy="7058160"/>
          </a:xfrm>
          <a:prstGeom prst="line">
            <a:avLst/>
          </a:prstGeom>
          <a:ln w="57240">
            <a:solidFill>
              <a:srgbClr val="ada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22" descr="선멱각"/>
          <p:cNvPicPr/>
          <p:nvPr/>
        </p:nvPicPr>
        <p:blipFill>
          <a:blip r:embed="rId2"/>
          <a:stretch/>
        </p:blipFill>
        <p:spPr>
          <a:xfrm>
            <a:off x="136440" y="9656640"/>
            <a:ext cx="1000080" cy="249480"/>
          </a:xfrm>
          <a:prstGeom prst="rect">
            <a:avLst/>
          </a:prstGeom>
          <a:ln w="0">
            <a:noFill/>
          </a:ln>
        </p:spPr>
      </p:pic>
      <p:sp>
        <p:nvSpPr>
          <p:cNvPr id="81" name="Line 210"/>
          <p:cNvSpPr/>
          <p:nvPr/>
        </p:nvSpPr>
        <p:spPr>
          <a:xfrm>
            <a:off x="162000" y="9664560"/>
            <a:ext cx="648648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82" name="직사각형 3"/>
          <p:cNvSpPr/>
          <p:nvPr/>
        </p:nvSpPr>
        <p:spPr>
          <a:xfrm>
            <a:off x="162000" y="1054080"/>
            <a:ext cx="6486480" cy="859140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869560" y="9659880"/>
            <a:ext cx="829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ABF8-1D03-4C15-98F6-FEC224D5FB3B}" type="slidenum"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pic>
        <p:nvPicPr>
          <p:cNvPr id="84" name="그림 5" descr=""/>
          <p:cNvPicPr/>
          <p:nvPr/>
        </p:nvPicPr>
        <p:blipFill>
          <a:blip r:embed="rId3"/>
          <a:stretch/>
        </p:blipFill>
        <p:spPr>
          <a:xfrm>
            <a:off x="6151680" y="9683640"/>
            <a:ext cx="706320" cy="192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08"/>
          <p:cNvSpPr/>
          <p:nvPr/>
        </p:nvSpPr>
        <p:spPr>
          <a:xfrm>
            <a:off x="482760" y="0"/>
            <a:ext cx="6375240" cy="534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06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53"/>
          <p:cNvSpPr/>
          <p:nvPr/>
        </p:nvSpPr>
        <p:spPr>
          <a:xfrm>
            <a:off x="201600" y="1020600"/>
            <a:ext cx="39211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별첨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1&gt;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*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협력업체 추천서</a:t>
            </a: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체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61800" y="1455840"/>
          <a:ext cx="6191280" cy="779616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7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협력업체 추천서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업      체      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업체연락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담당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3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추   천    사   유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4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추천업체와의 관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5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특   기   사   항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상기업체를         공사 중        공사의 협력업체로 추천합니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추    천   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           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부     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           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직     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             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성     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:                   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  ※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추천업체가 없을 시에도 추천인에 서명하여 주시기 바랍니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바탕체"/>
                          <a:ea typeface="바탕체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체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8"/>
          <p:cNvSpPr/>
          <p:nvPr/>
        </p:nvSpPr>
        <p:spPr>
          <a:xfrm>
            <a:off x="266760" y="9371160"/>
            <a:ext cx="61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</a:rPr>
              <a:t>※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</a:rPr>
              <a:t>공무부는 임원 및 각 본부장에게 협력업체 추천서를 접수받도록 한다</a:t>
            </a:r>
            <a:r>
              <a:rPr b="1" lang="en-US" sz="1000" spc="-1" strike="noStrike">
                <a:solidFill>
                  <a:srgbClr val="000000"/>
                </a:solidFill>
                <a:latin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34" name="제목 3"/>
          <p:cNvSpPr/>
          <p:nvPr/>
        </p:nvSpPr>
        <p:spPr>
          <a:xfrm>
            <a:off x="201600" y="666720"/>
            <a:ext cx="5187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96.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업체선정 업무 흐름도 별첨자료</a:t>
            </a:r>
            <a:endParaRPr b="0" lang="en-US" sz="16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9T10:29:48Z</dcterms:created>
  <dc:creator>김관주</dc:creator>
  <dc:description/>
  <dc:language>en-US</dc:language>
  <cp:lastModifiedBy>BJH</cp:lastModifiedBy>
  <cp:lastPrinted>2016-08-12T06:51:33Z</cp:lastPrinted>
  <dcterms:modified xsi:type="dcterms:W3CDTF">2019-12-02T01:16:42Z</dcterms:modified>
  <cp:revision>1429</cp:revision>
  <dc:subject/>
  <dc:title>대방실무지침서</dc:title>
</cp:coreProperties>
</file>